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A6430B-FC75-4880-BC14-E2916522E479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8542314-CF2C-4CBF-B5EC-47C2A6D0D5DC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0" y="32688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98600" y="4686120"/>
            <a:ext cx="5805360" cy="44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A8F-A41B-445C-B0EF-6ECB3A06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18F-D7BC-496D-A42F-DBF9905C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51D-2BBB-46B3-A606-6A642592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2BA-340E-4A14-93C1-C2A3852B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6CE-9540-4A8D-8C1B-DBC32E41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99AF-052B-4D50-B356-5ACE9639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4B3-E032-489A-8DD8-48DEC444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5E81-9754-421C-B7B4-3E087B56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B4F-4184-49C1-9918-2D7974A6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422-64FE-485D-B608-FBBC0D01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1E8-AF47-4BAF-AB10-D07C38B8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5B2-197F-4295-A98F-6E0E7B31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923F-FEF1-445C-AFF1-861045985BC3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Hälsoeffekter av gaser och partiklar bildade vid svets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3284640"/>
            <a:ext cx="6840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Bengt Sjög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Arbetsmiljötoxikol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Institutet för miljömedi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Karolinska Institu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bets- och Miljömedicinskt Vårmö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000000"/>
                </a:solidFill>
                <a:latin typeface="Arial"/>
              </a:rPr>
              <a:t>9 april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KI-Logo_pos_sv"/>
          <p:cNvPicPr/>
          <p:nvPr/>
        </p:nvPicPr>
        <p:blipFill>
          <a:blip r:embed="rId1"/>
          <a:stretch/>
        </p:blipFill>
        <p:spPr>
          <a:xfrm>
            <a:off x="5724360" y="189000"/>
            <a:ext cx="3240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Arial"/>
              </a:rPr>
              <a:t>Svetsning och lungcanc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9640" y="3429000"/>
          <a:ext cx="8229600" cy="2494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vetsarkateg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ntal f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ddskv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5% konfidens-interv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tl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 – 1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&lt;3 å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 – 1,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- &lt;10 å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6 – 1,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25 å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 – 1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5 å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1 – 2,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7" name="TextBox 5"/>
          <p:cNvSpPr/>
          <p:nvPr/>
        </p:nvSpPr>
        <p:spPr>
          <a:xfrm>
            <a:off x="628560" y="1484280"/>
            <a:ext cx="792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YNERGY-projektet är en poolad analys av 16 studier i Europa, Canada, Kina och Nya Zealand. Studien innehåller totalt 15 483 lungcancerfall och 18 388 kontroller, enbart män. Oddskvoterna har justerats för ålder, rökning, studieort och anställning i andra yrken som associerats med ökad lung-cancerrisk. P-värdet för trend  &lt; 0,0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4788000" y="618336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Kendzia B et al. Am J Epidemiol 2013; 178: 1513-152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Arial"/>
              </a:rPr>
              <a:t>Förebyggande åtgär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600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3300"/>
                </a:solidFill>
                <a:latin typeface="Arial"/>
              </a:rPr>
              <a:t>Utbild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3300"/>
                </a:solidFill>
                <a:latin typeface="Arial"/>
              </a:rPr>
              <a:t>Venti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Hälsok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3300"/>
                </a:solidFill>
                <a:latin typeface="Arial"/>
              </a:rPr>
              <a:t>Vacc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23079" t="4661" r="7417" b="8220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rcRect l="10488" t="19231" r="75482" b="66413"/>
          <a:stretch/>
        </p:blipFill>
        <p:spPr>
          <a:xfrm>
            <a:off x="366840" y="2492280"/>
            <a:ext cx="2333520" cy="194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rcRect l="37341" t="39745" r="47435" b="34614"/>
          <a:stretch/>
        </p:blipFill>
        <p:spPr>
          <a:xfrm>
            <a:off x="3132000" y="1341360"/>
            <a:ext cx="2303640" cy="3095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rcRect l="4807" t="26923" r="79970" b="51282"/>
          <a:stretch/>
        </p:blipFill>
        <p:spPr>
          <a:xfrm>
            <a:off x="5796000" y="1557360"/>
            <a:ext cx="2448000" cy="2592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826920" y="46530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erat uts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3203640" y="465948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ktutsug ska använ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724360" y="465948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ningsskydd ska normalt användas.  Svetshjälm med filtrerad luft från personburen flä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900000" y="47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468360" y="476280"/>
            <a:ext cx="8496360" cy="63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32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siv pneumokocksjukdom karakteriseras av att bakterien isoleras från en del av människokroppen som normalt är steril t ex blod och cerebrospinalvätsk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tersom risken att utveckla invasiv pneumokocksjukdom ökar med åldern diskuterar Palmer &amp; Cosgrove (2012) vaccination av äldre svetsare och man anger exemplet svetsare över 50 års åld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en för invasiv pneumokocksjukdom är också högre hos rökare (Wong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Health i Storbritannien rekommenderar att vaccination mot pneumokocker ska övervägas för personer som yrkesmässigt exponeras för metallrök (Department of Health 2013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Känsliga svetsargrupper, som kan vara en målgrupp för vaccination, är äldre än 50 år, rökare och personer som tidigare behandlats på grund lunginflammation eller annan respiratorisk sjukdom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jögren &amp; Johanson. Läkartidningen 2014; 111: 45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826920" y="260280"/>
            <a:ext cx="582012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Kunskapssammanställning  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Arbetsmiljöverket Rapport 2013:5 (www.av.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3300"/>
                </a:solidFill>
                <a:latin typeface="Arial"/>
              </a:rPr>
              <a:t>Kolmonoxidförgift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Lungö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Kronisk bron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Kroniskt obstruktiv lungsjukdom (K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3300"/>
                </a:solidFill>
                <a:latin typeface="Arial"/>
              </a:rPr>
              <a:t>Lunginflammation</a:t>
            </a:r>
            <a:r>
              <a:rPr b="0" lang="sv-SE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3300"/>
                </a:solidFill>
                <a:latin typeface="Arial"/>
              </a:rPr>
              <a:t>Metallröksf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3300"/>
                </a:solidFill>
                <a:latin typeface="Arial"/>
              </a:rPr>
              <a:t>Hjärtinfa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åverkan på nervsyste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3300"/>
                </a:solidFill>
                <a:latin typeface="Arial"/>
              </a:rPr>
              <a:t>Lung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åverkan på fortplant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Förebyggande åtgä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3300"/>
                </a:solidFill>
                <a:latin typeface="Arial"/>
              </a:rPr>
              <a:t>Utbild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3300"/>
                </a:solidFill>
                <a:latin typeface="Arial"/>
              </a:rPr>
              <a:t>Venti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Hälsok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ff3300"/>
                </a:solidFill>
                <a:latin typeface="Arial"/>
              </a:rPr>
              <a:t>Vaccination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rcRect l="55789" t="7855" r="9134" b="14731"/>
          <a:stretch/>
        </p:blipFill>
        <p:spPr>
          <a:xfrm>
            <a:off x="6156360" y="2070000"/>
            <a:ext cx="252900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Arial"/>
              </a:rPr>
              <a:t>Antalet svets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alet svetsare uppskattas till 20 000 - 25 000 i vårt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 är omkring 250 000 personer som svetsar i sitt yrke utan att kalla sig svets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industrialiserade länder beräknas antalet svetsare uppgå till ca 1 procent av arbetskrafte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-3240" y="0"/>
            <a:ext cx="7164360" cy="4437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34920" y="4508640"/>
            <a:ext cx="5977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assvetsning av fjärrvärmerör med acetylen och syrgas har orsakat flera förgiftningsfall med kolmonoxid (CO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cetylengas bildar CO vid förbränning vid brist på syrgas. Detta har inträffat då rörändarna är tillslutna (Antonsson oa 2013)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6012000" y="0"/>
            <a:ext cx="3132000" cy="4437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5939280" y="5889600"/>
            <a:ext cx="244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v-S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v-S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 + 0</a:t>
            </a:r>
            <a:r>
              <a:rPr b="1" lang="sv-S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 2CO + H</a:t>
            </a:r>
            <a:r>
              <a:rPr b="1" lang="sv-S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Arial"/>
              </a:rPr>
              <a:t>Lunginflam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re oberoende fall av dödlig lung-inflammation och blodförgiftning  hos svetsare har rapporterats från Norge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(Wergeland &amp; Iversen 2001).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Epidemiologiska studier från USA och England har observerat en ökad dödliget i lunginflammation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(Beaumont &amp; Weiss 1980, Newhouse oa 1985, Coggon oa 1994, Palmer oa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Tretton försökspersoner exponerades för zinkoxid under 2 tim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859280" y="630864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ine oa. JOEM  1997; 39: 722-7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Figur 3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Figu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Arial"/>
              </a:rPr>
              <a:t>Hjärtinfark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Expon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Interleukin-6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Fibrin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Hjärtinfarkt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4140360" y="2708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4140360" y="3645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4140360" y="472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451640" y="6237360"/>
            <a:ext cx="1692360" cy="620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79280" y="376200"/>
            <a:ext cx="878364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Possible biological mechanisms linking PM with cardiovascular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Brook et al. Circulation 2004; 109: 2655-2671, Figu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Akut hjärtinfarkt och ischemisk hjärtsjukdom bland svetsare. HR står för hazard ratio och KI för konfidensinterval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2276640"/>
          <a:ext cx="8447040" cy="2504880"/>
        </p:xfrm>
        <a:graphic>
          <a:graphicData uri="http://schemas.openxmlformats.org/drawingml/2006/table">
            <a:tbl>
              <a:tblPr/>
              <a:tblGrid>
                <a:gridCol w="1861920"/>
                <a:gridCol w="1451160"/>
                <a:gridCol w="1841400"/>
                <a:gridCol w="1471680"/>
                <a:gridCol w="18208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juk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ntal fall bland mä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R (95% K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ntal bland kvin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R (95% K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ut hjärtinfar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9 (1,13-1,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 (1,07-1,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2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chemisk hjärtsjuk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 (1,13-1,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 (0,98-1,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74" name="TextBox 4"/>
          <p:cNvSpPr/>
          <p:nvPr/>
        </p:nvSpPr>
        <p:spPr>
          <a:xfrm>
            <a:off x="334800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Wiebert oa Occup Environ Med 2012; 69: 651-6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5:25:06Z</dcterms:created>
  <dc:creator>bensjo</dc:creator>
  <dc:description/>
  <dc:language>en-US</dc:language>
  <cp:lastModifiedBy>Landstinget i Uppsala län</cp:lastModifiedBy>
  <cp:lastPrinted>2014-04-04T07:37:49Z</cp:lastPrinted>
  <dcterms:modified xsi:type="dcterms:W3CDTF">2014-04-07T13:34:06Z</dcterms:modified>
  <cp:revision>460</cp:revision>
  <dc:subject/>
  <dc:title>The Meuse Valley fog of 1930</dc:title>
</cp:coreProperties>
</file>