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1BCC-CC21-4CE6-8BAF-226A4580636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Beror på vilket utfall man h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tshållare för bild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F651-5EE4-415C-8D67-134FC1C93DD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294-CDAC-460D-B5E2-8270207E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52480" y="398484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242-1396-4457-93F3-0D13D8B3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52480" y="39848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4920" y="39848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EE1-895B-432E-AB99-99CE1D11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23080" y="16765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93320" y="16765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52480" y="39848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23080" y="39848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93320" y="39848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B88-503F-4BA7-A779-3295D503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070D-2FB5-4E15-85E4-65FCBDB7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752480" y="16765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9D74-E2FA-47B4-8427-86448543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2C8C-FFFF-420C-9A27-5BB75F72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9472-FD31-431F-8CDB-AAB1CC9B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6E84-FC20-4040-A3FC-6D94C23E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52480" y="130320"/>
            <a:ext cx="70106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BA68-7665-46C2-A644-99C6A3A0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752480" y="39848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A95F-BF4E-4010-80EC-9B05812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52480" y="16765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CC8-C56C-4F6A-B626-F88AAB26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44920" y="39848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F950-2672-4BD3-9AF8-7B6F5549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52480" y="398484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E3C3-2EED-4981-B532-667FC144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752480" y="398484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1252-F3E9-4BBE-A8BF-5F22D506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52480" y="39848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44920" y="39848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CA23-56A0-4B27-AD2D-44685950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23080" y="16765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93320" y="16765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752480" y="39848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23080" y="39848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93320" y="39848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0E6C-48C7-47EC-AF8F-841D5CC1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9CB6-6F52-4451-9954-92E78066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752480" y="16765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3649-9A4D-4B0F-A230-79124784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FA02-2DC6-4ACD-90D6-AABBDC10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3046-75E4-4F82-B0D5-7C6BF52B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2C616-463B-4953-A6F6-DA26A7E3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68A-6CFF-46E7-A299-D2423EB2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752480" y="130320"/>
            <a:ext cx="70106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7573-A854-41F5-A39E-692DB75B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752480" y="39848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A3CD-7939-4FD6-BC36-DD31E384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44920" y="39848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57B3A-F924-4BA9-8841-BEE7BF8E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752480" y="398484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95310-79A2-44CA-938E-B6DD33D2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752480" y="398484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01D7-2ABA-40EA-8701-B8B02679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752480" y="39848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44920" y="39848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DEAF-CA13-4B58-829C-16ED57EE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123080" y="16765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93320" y="16765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752480" y="39848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123080" y="39848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93320" y="39848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7F3CA-61BD-4EEA-A954-8B7C5059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C22-2DC3-4DB7-AD4B-B821DB3B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E99-306F-4BD8-9D47-6984DFF1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480" y="130320"/>
            <a:ext cx="70106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1C5-CDBD-489E-8205-6C50E590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52480" y="39848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70F-D961-4DF6-8F86-1E1E2B38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44920" y="39848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C8A-00A9-4E76-872E-352ED8D2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44920" y="16765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398484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5E8-911A-4F26-B4A7-A573726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3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52480" y="16765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752120" y="6324120"/>
            <a:ext cx="1373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9B70-7DD7-4CD1-94A1-5CF30C5E2DBD}" type="datetime3">
              <a:rPr b="0" lang="sv-SE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6324120"/>
            <a:ext cx="3733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eresia Ny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88000" y="6324120"/>
            <a:ext cx="127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CC86-4643-41C5-8013-6183815F24B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4" descr="aka_p293_50mm"/>
          <p:cNvPicPr/>
          <p:nvPr/>
        </p:nvPicPr>
        <p:blipFill>
          <a:blip r:embed="rId3"/>
          <a:stretch/>
        </p:blipFill>
        <p:spPr>
          <a:xfrm>
            <a:off x="247680" y="5943600"/>
            <a:ext cx="102384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3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ka_p293_50mm"/>
          <p:cNvPicPr/>
          <p:nvPr/>
        </p:nvPicPr>
        <p:blipFill>
          <a:blip r:embed="rId3"/>
          <a:stretch/>
        </p:blipFill>
        <p:spPr>
          <a:xfrm>
            <a:off x="247680" y="5943600"/>
            <a:ext cx="1023840" cy="646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752480" y="16765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752480" y="6324120"/>
            <a:ext cx="1371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EB28-3869-44E0-8F02-C950A1383E99}" type="datetime3">
              <a:rPr b="0" lang="sv-SE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29000" y="6324120"/>
            <a:ext cx="3733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eresia Ny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488000" y="6324120"/>
            <a:ext cx="127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BC97-C911-4D17-99EF-348A745503E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13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aka_p293_50mm"/>
          <p:cNvPicPr/>
          <p:nvPr/>
        </p:nvPicPr>
        <p:blipFill>
          <a:blip r:embed="rId3"/>
          <a:stretch/>
        </p:blipFill>
        <p:spPr>
          <a:xfrm>
            <a:off x="247680" y="5943600"/>
            <a:ext cx="1023840" cy="646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752480" y="16765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752120" y="6324120"/>
            <a:ext cx="1373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9000" y="6324120"/>
            <a:ext cx="3733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488000" y="6324120"/>
            <a:ext cx="127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7628-08E8-4FBD-A426-828313CCD5A0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quantitativeskills.com/sisa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sv-SE" sz="2800" spc="-1" strike="noStrike">
                <a:solidFill>
                  <a:srgbClr val="666666"/>
                </a:solidFill>
                <a:latin typeface="Arial"/>
              </a:rPr>
              <a:t>Statistik för epidemiologiska studier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ips och 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372360" y="5516640"/>
            <a:ext cx="26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v Tobias Nordqvist</a:t>
            </a: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tatistiker</a:t>
            </a: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rbets- och Miljömedicin i Upps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47640" y="438120"/>
            <a:ext cx="6337440" cy="75888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666666"/>
                </a:solidFill>
                <a:latin typeface="Arial"/>
              </a:rPr>
              <a:t>Att tänka på innan en studie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816200" y="3665520"/>
            <a:ext cx="383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547640" y="1197000"/>
            <a:ext cx="68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ydlig frågeställning där man kan få reda på resultatet av de utvalda frågorna/variabl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älj analysmetod redan när frågorna framställs, om möjli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ellre detaljerade frågor än kategorifrågor, t.ex. vikt och län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ela ut eventuell enkät för ifyllnad till arbetskamrater eller någon liten test-grupp innan man skickar ut till alla. Det finns dessutom många validerade test för enkät-undersöknin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yp av undersökning? Enkät med eller utan uppföljning, påkopplade register? (från Epc , SC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dast frågor/variabler som man kommer anvä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ra med någon representativ referens/kontroll-grupp som passar ihop med det utvalda urvalet (ev. matchning av kön, ålder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666666"/>
                </a:solidFill>
                <a:latin typeface="Arial"/>
              </a:rPr>
              <a:t>Hypotesprövning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52480" y="16765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ollhyp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est av punktestimat (tänk på spridningen av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Är skillnaden av betydelse? (Power-beräk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ndast då ska man göra signifikanstest och fungerar bara för ”små” ur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666666"/>
                </a:solidFill>
                <a:latin typeface="Arial"/>
              </a:rPr>
              <a:t>Välj rätt meto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52480" y="16765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et finns många olika fördelningar och statistiska metoder för att beskriva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xempelv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Regression; Linjär, Logistisk, Kvantil, Cox, 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cke-parametriska metoder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-Squared Test, Sign Test,  Mann-Whitney-Wilcoxon, Wilcoxon Signed Rank, Kruskal-Wallis, Friedman test. (jämförbara med de parametriska metoderna, men inte lika star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8506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666666"/>
                </a:solidFill>
                <a:latin typeface="Arial"/>
              </a:rPr>
              <a:t>Oddskvot och relativ risk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47640" y="1614600"/>
          <a:ext cx="7417080" cy="3603600"/>
        </p:xfrm>
        <a:graphic>
          <a:graphicData uri="http://schemas.openxmlformats.org/drawingml/2006/table">
            <a:tbl>
              <a:tblPr/>
              <a:tblGrid>
                <a:gridCol w="1202040"/>
                <a:gridCol w="1757160"/>
                <a:gridCol w="2152800"/>
                <a:gridCol w="2305080"/>
              </a:tblGrid>
              <a:tr h="93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r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xponer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b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 ut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+ 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+ 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a + b + c +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9" name="Group 85"/>
          <p:cNvGrpSpPr/>
          <p:nvPr/>
        </p:nvGrpSpPr>
        <p:grpSpPr>
          <a:xfrm>
            <a:off x="2484360" y="5557680"/>
            <a:ext cx="2951280" cy="799920"/>
            <a:chOff x="2484360" y="5557680"/>
            <a:chExt cx="2951280" cy="799920"/>
          </a:xfrm>
        </p:grpSpPr>
        <p:sp>
          <p:nvSpPr>
            <p:cNvPr id="160" name="Text Box 60"/>
            <p:cNvSpPr/>
            <p:nvPr/>
          </p:nvSpPr>
          <p:spPr>
            <a:xfrm>
              <a:off x="2484360" y="577332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Relativ Risk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64"/>
            <p:cNvGrpSpPr/>
            <p:nvPr/>
          </p:nvGrpSpPr>
          <p:grpSpPr>
            <a:xfrm>
              <a:off x="4211640" y="5557680"/>
              <a:ext cx="1224000" cy="799920"/>
              <a:chOff x="4211640" y="5557680"/>
              <a:chExt cx="1224000" cy="799920"/>
            </a:xfrm>
          </p:grpSpPr>
          <p:sp>
            <p:nvSpPr>
              <p:cNvPr id="162" name="Text Box 61"/>
              <p:cNvSpPr/>
              <p:nvPr/>
            </p:nvSpPr>
            <p:spPr>
              <a:xfrm>
                <a:off x="4211640" y="555768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a / (a+c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2"/>
              <p:cNvSpPr/>
              <p:nvPr/>
            </p:nvSpPr>
            <p:spPr>
              <a:xfrm>
                <a:off x="4211640" y="598932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63"/>
              <p:cNvSpPr/>
              <p:nvPr/>
            </p:nvSpPr>
            <p:spPr>
              <a:xfrm>
                <a:off x="4211640" y="5989320"/>
                <a:ext cx="11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b / (b+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84"/>
          <p:cNvGrpSpPr/>
          <p:nvPr/>
        </p:nvGrpSpPr>
        <p:grpSpPr>
          <a:xfrm>
            <a:off x="6012000" y="5595840"/>
            <a:ext cx="2520720" cy="720720"/>
            <a:chOff x="6012000" y="5595840"/>
            <a:chExt cx="2520720" cy="720720"/>
          </a:xfrm>
        </p:grpSpPr>
        <p:sp>
          <p:nvSpPr>
            <p:cNvPr id="166" name="Text Box 72"/>
            <p:cNvSpPr/>
            <p:nvPr/>
          </p:nvSpPr>
          <p:spPr>
            <a:xfrm>
              <a:off x="6012000" y="58114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Oddskvot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3"/>
            <p:cNvSpPr/>
            <p:nvPr/>
          </p:nvSpPr>
          <p:spPr>
            <a:xfrm>
              <a:off x="7596000" y="55958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a /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4"/>
            <p:cNvSpPr/>
            <p:nvPr/>
          </p:nvSpPr>
          <p:spPr>
            <a:xfrm>
              <a:off x="7451640" y="5956200"/>
              <a:ext cx="93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b / 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5"/>
            <p:cNvSpPr/>
            <p:nvPr/>
          </p:nvSpPr>
          <p:spPr>
            <a:xfrm>
              <a:off x="7451640" y="59562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66800" y="274680"/>
            <a:ext cx="7020000" cy="8589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666666"/>
                </a:solidFill>
                <a:latin typeface="Arial"/>
              </a:rPr>
              <a:t>Oddskvot och relativ risk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01640" y="1722600"/>
          <a:ext cx="7363080" cy="3484440"/>
        </p:xfrm>
        <a:graphic>
          <a:graphicData uri="http://schemas.openxmlformats.org/drawingml/2006/table">
            <a:tbl>
              <a:tblPr/>
              <a:tblGrid>
                <a:gridCol w="1379520"/>
                <a:gridCol w="1683000"/>
                <a:gridCol w="1869840"/>
                <a:gridCol w="2430720"/>
              </a:tblGrid>
              <a:tr h="8712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 låga risk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lasitta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 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Grupp 15"/>
          <p:cNvGrpSpPr/>
          <p:nvPr/>
        </p:nvGrpSpPr>
        <p:grpSpPr>
          <a:xfrm>
            <a:off x="1651680" y="5511960"/>
            <a:ext cx="3612240" cy="799560"/>
            <a:chOff x="1651680" y="5511960"/>
            <a:chExt cx="3612240" cy="799560"/>
          </a:xfrm>
        </p:grpSpPr>
        <p:grpSp>
          <p:nvGrpSpPr>
            <p:cNvPr id="173" name="Group 85"/>
            <p:cNvGrpSpPr/>
            <p:nvPr/>
          </p:nvGrpSpPr>
          <p:grpSpPr>
            <a:xfrm>
              <a:off x="2979720" y="5511960"/>
              <a:ext cx="2284200" cy="799560"/>
              <a:chOff x="2979720" y="5511960"/>
              <a:chExt cx="2284200" cy="799560"/>
            </a:xfrm>
          </p:grpSpPr>
          <p:sp>
            <p:nvSpPr>
              <p:cNvPr id="174" name="Text Box 60"/>
              <p:cNvSpPr/>
              <p:nvPr/>
            </p:nvSpPr>
            <p:spPr>
              <a:xfrm>
                <a:off x="3281760" y="5757480"/>
                <a:ext cx="198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= 1.5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64"/>
              <p:cNvGrpSpPr/>
              <p:nvPr/>
            </p:nvGrpSpPr>
            <p:grpSpPr>
              <a:xfrm>
                <a:off x="2979720" y="5511960"/>
                <a:ext cx="1464840" cy="799560"/>
                <a:chOff x="2979720" y="5511960"/>
                <a:chExt cx="1464840" cy="799560"/>
              </a:xfrm>
            </p:grpSpPr>
            <p:sp>
              <p:nvSpPr>
                <p:cNvPr id="176" name="Text Box 61"/>
                <p:cNvSpPr/>
                <p:nvPr/>
              </p:nvSpPr>
              <p:spPr>
                <a:xfrm>
                  <a:off x="2979720" y="5511960"/>
                  <a:ext cx="1464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800" spc="-1" strike="noStrike">
                      <a:solidFill>
                        <a:srgbClr val="000000"/>
                      </a:solidFill>
                      <a:latin typeface="Arial"/>
                    </a:rPr>
                    <a:t>3 / (3+47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62"/>
                <p:cNvSpPr/>
                <p:nvPr/>
              </p:nvSpPr>
              <p:spPr>
                <a:xfrm>
                  <a:off x="2979720" y="5943240"/>
                  <a:ext cx="12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Text Box 63"/>
                <p:cNvSpPr/>
                <p:nvPr/>
              </p:nvSpPr>
              <p:spPr>
                <a:xfrm>
                  <a:off x="2979720" y="5943240"/>
                  <a:ext cx="1379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800" spc="-1" strike="noStrike">
                      <a:solidFill>
                        <a:srgbClr val="000000"/>
                      </a:solidFill>
                      <a:latin typeface="Arial"/>
                    </a:rPr>
                    <a:t>2 / (2+48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9" name="textruta 17"/>
            <p:cNvSpPr/>
            <p:nvPr/>
          </p:nvSpPr>
          <p:spPr>
            <a:xfrm>
              <a:off x="1651680" y="560916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Relati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ris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upp 23"/>
          <p:cNvGrpSpPr/>
          <p:nvPr/>
        </p:nvGrpSpPr>
        <p:grpSpPr>
          <a:xfrm>
            <a:off x="5290560" y="5551560"/>
            <a:ext cx="3383640" cy="761760"/>
            <a:chOff x="5290560" y="5551560"/>
            <a:chExt cx="3383640" cy="761760"/>
          </a:xfrm>
        </p:grpSpPr>
        <p:grpSp>
          <p:nvGrpSpPr>
            <p:cNvPr id="181" name="Group 84"/>
            <p:cNvGrpSpPr/>
            <p:nvPr/>
          </p:nvGrpSpPr>
          <p:grpSpPr>
            <a:xfrm>
              <a:off x="6621480" y="5551560"/>
              <a:ext cx="2052720" cy="761760"/>
              <a:chOff x="6621480" y="5551560"/>
              <a:chExt cx="2052720" cy="761760"/>
            </a:xfrm>
          </p:grpSpPr>
          <p:sp>
            <p:nvSpPr>
              <p:cNvPr id="182" name="Text Box 72"/>
              <p:cNvSpPr/>
              <p:nvPr/>
            </p:nvSpPr>
            <p:spPr>
              <a:xfrm>
                <a:off x="7234200" y="5757840"/>
                <a:ext cx="144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=  1.53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73"/>
              <p:cNvSpPr/>
              <p:nvPr/>
            </p:nvSpPr>
            <p:spPr>
              <a:xfrm>
                <a:off x="6838920" y="555156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3 / 4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74"/>
              <p:cNvSpPr/>
              <p:nvPr/>
            </p:nvSpPr>
            <p:spPr>
              <a:xfrm>
                <a:off x="6765840" y="5952960"/>
                <a:ext cx="936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2 / 48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75"/>
              <p:cNvSpPr/>
              <p:nvPr/>
            </p:nvSpPr>
            <p:spPr>
              <a:xfrm>
                <a:off x="6621480" y="593568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ruta 25"/>
            <p:cNvSpPr/>
            <p:nvPr/>
          </p:nvSpPr>
          <p:spPr>
            <a:xfrm>
              <a:off x="5290560" y="5744160"/>
              <a:ext cx="134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Oddskvot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ruta 1"/>
          <p:cNvSpPr/>
          <p:nvPr/>
        </p:nvSpPr>
        <p:spPr>
          <a:xfrm>
            <a:off x="2577240" y="571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11360" y="274320"/>
            <a:ext cx="7075440" cy="855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666666"/>
                </a:solidFill>
                <a:latin typeface="Arial"/>
              </a:rPr>
              <a:t>Oddskvot och relativ risk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611360" y="1774800"/>
          <a:ext cx="7327800" cy="3591000"/>
        </p:xfrm>
        <a:graphic>
          <a:graphicData uri="http://schemas.openxmlformats.org/drawingml/2006/table">
            <a:tbl>
              <a:tblPr/>
              <a:tblGrid>
                <a:gridCol w="1574640"/>
                <a:gridCol w="1349640"/>
                <a:gridCol w="1984320"/>
                <a:gridCol w="2419200"/>
              </a:tblGrid>
              <a:tr h="87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 höga risk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ök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ke-rök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 can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0" name="Grupp 2"/>
          <p:cNvGrpSpPr/>
          <p:nvPr/>
        </p:nvGrpSpPr>
        <p:grpSpPr>
          <a:xfrm>
            <a:off x="2012400" y="5551560"/>
            <a:ext cx="2946600" cy="799920"/>
            <a:chOff x="2012400" y="5551560"/>
            <a:chExt cx="2946600" cy="799920"/>
          </a:xfrm>
        </p:grpSpPr>
        <p:grpSp>
          <p:nvGrpSpPr>
            <p:cNvPr id="191" name="Group 85"/>
            <p:cNvGrpSpPr/>
            <p:nvPr/>
          </p:nvGrpSpPr>
          <p:grpSpPr>
            <a:xfrm>
              <a:off x="2826360" y="5551560"/>
              <a:ext cx="2132640" cy="799920"/>
              <a:chOff x="2826360" y="5551560"/>
              <a:chExt cx="2132640" cy="799920"/>
            </a:xfrm>
          </p:grpSpPr>
          <p:sp>
            <p:nvSpPr>
              <p:cNvPr id="192" name="Text Box 60"/>
              <p:cNvSpPr/>
              <p:nvPr/>
            </p:nvSpPr>
            <p:spPr>
              <a:xfrm>
                <a:off x="3108240" y="5797440"/>
                <a:ext cx="18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=  4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64"/>
              <p:cNvGrpSpPr/>
              <p:nvPr/>
            </p:nvGrpSpPr>
            <p:grpSpPr>
              <a:xfrm>
                <a:off x="2826360" y="5551560"/>
                <a:ext cx="1367640" cy="799920"/>
                <a:chOff x="2826360" y="5551560"/>
                <a:chExt cx="1367640" cy="799920"/>
              </a:xfrm>
            </p:grpSpPr>
            <p:sp>
              <p:nvSpPr>
                <p:cNvPr id="194" name="Text Box 61"/>
                <p:cNvSpPr/>
                <p:nvPr/>
              </p:nvSpPr>
              <p:spPr>
                <a:xfrm>
                  <a:off x="2826360" y="5551560"/>
                  <a:ext cx="136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800" spc="-1" strike="noStrike">
                      <a:solidFill>
                        <a:srgbClr val="000000"/>
                      </a:solidFill>
                      <a:latin typeface="Arial"/>
                    </a:rPr>
                    <a:t>8 / (8+2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2"/>
                <p:cNvSpPr/>
                <p:nvPr/>
              </p:nvSpPr>
              <p:spPr>
                <a:xfrm>
                  <a:off x="2826360" y="5983200"/>
                  <a:ext cx="120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63"/>
                <p:cNvSpPr/>
                <p:nvPr/>
              </p:nvSpPr>
              <p:spPr>
                <a:xfrm>
                  <a:off x="2826360" y="5983200"/>
                  <a:ext cx="1287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800" spc="-1" strike="noStrike">
                      <a:solidFill>
                        <a:srgbClr val="000000"/>
                      </a:solidFill>
                      <a:latin typeface="Arial"/>
                    </a:rPr>
                    <a:t>8 / (8+32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" name="textruta 1"/>
            <p:cNvSpPr/>
            <p:nvPr/>
          </p:nvSpPr>
          <p:spPr>
            <a:xfrm>
              <a:off x="2012400" y="579816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RR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upp 3"/>
          <p:cNvGrpSpPr/>
          <p:nvPr/>
        </p:nvGrpSpPr>
        <p:grpSpPr>
          <a:xfrm>
            <a:off x="5157000" y="5591160"/>
            <a:ext cx="3556440" cy="720720"/>
            <a:chOff x="5157000" y="5591160"/>
            <a:chExt cx="3556440" cy="720720"/>
          </a:xfrm>
        </p:grpSpPr>
        <p:grpSp>
          <p:nvGrpSpPr>
            <p:cNvPr id="199" name="Group 84"/>
            <p:cNvGrpSpPr/>
            <p:nvPr/>
          </p:nvGrpSpPr>
          <p:grpSpPr>
            <a:xfrm>
              <a:off x="6507720" y="5591160"/>
              <a:ext cx="2205720" cy="720720"/>
              <a:chOff x="6507720" y="5591160"/>
              <a:chExt cx="2205720" cy="720720"/>
            </a:xfrm>
          </p:grpSpPr>
          <p:sp>
            <p:nvSpPr>
              <p:cNvPr id="200" name="Text Box 72"/>
              <p:cNvSpPr/>
              <p:nvPr/>
            </p:nvSpPr>
            <p:spPr>
              <a:xfrm>
                <a:off x="7274160" y="5781600"/>
                <a:ext cx="143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=  16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73"/>
              <p:cNvSpPr/>
              <p:nvPr/>
            </p:nvSpPr>
            <p:spPr>
              <a:xfrm>
                <a:off x="6651720" y="5591160"/>
                <a:ext cx="93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8 /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4"/>
              <p:cNvSpPr/>
              <p:nvPr/>
            </p:nvSpPr>
            <p:spPr>
              <a:xfrm>
                <a:off x="6507720" y="5951520"/>
                <a:ext cx="93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8 / 32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75"/>
              <p:cNvSpPr/>
              <p:nvPr/>
            </p:nvSpPr>
            <p:spPr>
              <a:xfrm>
                <a:off x="6507720" y="5951520"/>
                <a:ext cx="108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textruta 15"/>
            <p:cNvSpPr/>
            <p:nvPr/>
          </p:nvSpPr>
          <p:spPr>
            <a:xfrm>
              <a:off x="5157000" y="5774400"/>
              <a:ext cx="134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Oddskvot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1303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666666"/>
                </a:solidFill>
                <a:latin typeface="Arial"/>
              </a:rPr>
              <a:t>Resultat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Kontrollera att all data är som den 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Visa saker grafiskt och i enkla tabeller fö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Kontrollera alltid att eventuella grundantaganden är uppfyllda för varje analysmetod (hypotesprövning) som anvä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te alltid viktigt med p-värden (bättre beskriva med konfidensinterv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ips: SISA </a:t>
            </a:r>
            <a:r>
              <a:rPr b="0" lang="sv-SE" sz="2400" spc="-1" strike="noStrike" u="sng">
                <a:solidFill>
                  <a:srgbClr val="b9d3c6"/>
                </a:solidFill>
                <a:uFillTx/>
                <a:latin typeface="Arial"/>
                <a:hlinkClick r:id="rId1"/>
              </a:rPr>
              <a:t>http://www.quantitativeskills.com/sis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35280" y="2565000"/>
            <a:ext cx="635616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666666"/>
                </a:solidFill>
                <a:latin typeface="Arial"/>
              </a:rPr>
              <a:t>Tack för mig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8:18:56Z</dcterms:created>
  <dc:creator>Birgitta Sinder  Wilén</dc:creator>
  <dc:description/>
  <dc:language>en-US</dc:language>
  <cp:lastModifiedBy>Tobias Nordqvist</cp:lastModifiedBy>
  <cp:lastPrinted>2008-11-17T13:18:01Z</cp:lastPrinted>
  <dcterms:modified xsi:type="dcterms:W3CDTF">2020-12-08T09:44:44Z</dcterms:modified>
  <cp:revision>46</cp:revision>
  <dc:subject/>
  <dc:title>PowerPoint-presentation</dc:title>
</cp:coreProperties>
</file>